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D30-A81A-465E-856B-7362DBE0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EB5-3B72-411C-A247-9A87B2F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FF7-D8BC-4838-AE22-8FE6C38B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966-71FC-44AE-AB62-193ABF13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B9-96CB-4A2B-A309-C71A0560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2E1-F518-468D-909F-A2918DD3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A77-5956-4ABB-AA83-D2E7D5E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926-0238-48F7-AA2B-471CBB4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867-33DE-464F-B8A8-D9527EA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FB9-919D-4178-9CCD-D0301DE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87E-6FE0-4E66-A6FB-7A726E2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D7A-C3A4-47E1-A026-FFCF715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CD75-E85A-437D-BAEF-C84C351DA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vre portail Domotic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ur de cou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1484280"/>
          <a:ext cx="79088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088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 flipV="1">
            <a:off x="2268000" y="191628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56000" y="198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1989000"/>
            <a:ext cx="865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3240" y="1844640"/>
            <a:ext cx="2020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ème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059280" y="2852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37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à l’arbre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6720" y="335772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213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au 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08720" y="4221000"/>
            <a:ext cx="107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8880" y="4005360"/>
            <a:ext cx="1589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ut modéliser une liaison av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otations et 1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084640"/>
            <a:ext cx="539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parallèle: sphère cylindre + ponct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sé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érique à doigt + gliss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77640" y="4667760"/>
            <a:ext cx="1116720" cy="1558440"/>
            <a:chOff x="6677640" y="4667760"/>
            <a:chExt cx="1116720" cy="1558440"/>
          </a:xfrm>
        </p:grpSpPr>
        <p:sp>
          <p:nvSpPr>
            <p:cNvPr id="59" name=""/>
            <p:cNvSpPr/>
            <p:nvPr/>
          </p:nvSpPr>
          <p:spPr>
            <a:xfrm rot="3600000">
              <a:off x="6903000" y="4721760"/>
              <a:ext cx="2890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 rot="19800000">
              <a:off x="6735960" y="494208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765120" y="47185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909120" y="49687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 rot="19800000">
              <a:off x="7156080" y="469872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0">
              <a:off x="6851520" y="4864680"/>
              <a:ext cx="267480" cy="2728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9800000">
              <a:off x="7283520" y="5604120"/>
              <a:ext cx="473400" cy="274680"/>
            </a:xfrm>
            <a:prstGeom prst="parallelogram">
              <a:avLst>
                <a:gd name="adj" fmla="val 57888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7413480" y="5421240"/>
              <a:ext cx="223200" cy="348120"/>
              <a:chOff x="7413480" y="5421240"/>
              <a:chExt cx="223200" cy="348120"/>
            </a:xfrm>
          </p:grpSpPr>
          <p:sp>
            <p:nvSpPr>
              <p:cNvPr id="67" name=""/>
              <p:cNvSpPr/>
              <p:nvPr/>
            </p:nvSpPr>
            <p:spPr>
              <a:xfrm>
                <a:off x="7525080" y="5421240"/>
                <a:ext cx="0" cy="12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13480" y="554580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25080" y="5501880"/>
                <a:ext cx="39960" cy="4392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flipV="1">
              <a:off x="7054920" y="5076000"/>
              <a:ext cx="459360" cy="344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5240" y="5191200"/>
              <a:ext cx="0" cy="57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25240" y="5766120"/>
              <a:ext cx="689040" cy="45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14280" y="5881320"/>
              <a:ext cx="0" cy="34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997960" y="2997000"/>
            <a:ext cx="1580400" cy="1314360"/>
            <a:chOff x="5997960" y="2997000"/>
            <a:chExt cx="1580400" cy="1314360"/>
          </a:xfrm>
        </p:grpSpPr>
        <p:sp>
          <p:nvSpPr>
            <p:cNvPr id="75" name=""/>
            <p:cNvSpPr/>
            <p:nvPr/>
          </p:nvSpPr>
          <p:spPr>
            <a:xfrm rot="3613800">
              <a:off x="6786000" y="3215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613800">
              <a:off x="6860520" y="321588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694920" y="3447000"/>
              <a:ext cx="105120" cy="5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013200">
              <a:off x="6746760" y="34592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786000" y="3215520"/>
              <a:ext cx="355680" cy="304920"/>
              <a:chOff x="6786000" y="3215520"/>
              <a:chExt cx="355680" cy="30492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7035480" y="3251880"/>
                <a:ext cx="106200" cy="6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613800">
                <a:off x="6826680" y="325584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613800">
                <a:off x="7044120" y="329688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rot="14400000">
              <a:off x="6227640" y="337176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064560" y="3558240"/>
              <a:ext cx="593640" cy="373320"/>
              <a:chOff x="6064560" y="3558240"/>
              <a:chExt cx="593640" cy="37332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6222600" y="3558240"/>
                <a:ext cx="435600" cy="251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6222600" y="3809520"/>
                <a:ext cx="360" cy="122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064560" y="3718080"/>
                <a:ext cx="158400" cy="9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6062760" y="3718800"/>
              <a:ext cx="160200" cy="212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62040" y="3810240"/>
              <a:ext cx="158040" cy="29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997960" y="3483000"/>
              <a:ext cx="742320" cy="428760"/>
              <a:chOff x="5997960" y="3483000"/>
              <a:chExt cx="742320" cy="42876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5997960" y="3828960"/>
                <a:ext cx="143280" cy="82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35520" y="3483000"/>
                <a:ext cx="104760" cy="604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flipV="1">
              <a:off x="6578640" y="3206880"/>
              <a:ext cx="25704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7560" y="3844800"/>
              <a:ext cx="0" cy="46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40160" y="2997000"/>
              <a:ext cx="538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9929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79280" y="836640"/>
            <a:ext cx="6629040" cy="3987360"/>
            <a:chOff x="179280" y="836640"/>
            <a:chExt cx="6629040" cy="3987360"/>
          </a:xfrm>
        </p:grpSpPr>
        <p:sp>
          <p:nvSpPr>
            <p:cNvPr id="98" name=""/>
            <p:cNvSpPr/>
            <p:nvPr/>
          </p:nvSpPr>
          <p:spPr>
            <a:xfrm>
              <a:off x="179280" y="1547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b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836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1960" y="91260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0120" y="16491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de sor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000" y="242388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62440" y="2474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55440" y="39225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96720" y="1458720"/>
              <a:ext cx="6220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6600" y="1319040"/>
              <a:ext cx="54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7560" y="1433520"/>
              <a:ext cx="990360" cy="52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0400" y="2195280"/>
              <a:ext cx="698400" cy="469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0280" y="2436480"/>
              <a:ext cx="1028520" cy="1739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96920" y="1725480"/>
              <a:ext cx="87624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0" y="2932200"/>
              <a:ext cx="812880" cy="38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998440" y="3325680"/>
              <a:ext cx="1104840" cy="914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43240" y="2398320"/>
              <a:ext cx="774720" cy="495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48000" y="4508640"/>
            <a:ext cx="3090960" cy="1549440"/>
            <a:chOff x="3348000" y="4508640"/>
            <a:chExt cx="3090960" cy="1549440"/>
          </a:xfrm>
        </p:grpSpPr>
        <p:sp>
          <p:nvSpPr>
            <p:cNvPr id="115" name=""/>
            <p:cNvSpPr/>
            <p:nvPr/>
          </p:nvSpPr>
          <p:spPr>
            <a:xfrm>
              <a:off x="3348000" y="4508640"/>
              <a:ext cx="3090960" cy="154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iaisons 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issière + sphérique à doig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 sphère cylindre + sphèr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ui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4480" y="500364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480" y="5893200"/>
              <a:ext cx="618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214040" y="260640"/>
            <a:ext cx="1137600" cy="6430320"/>
            <a:chOff x="7214040" y="260640"/>
            <a:chExt cx="1137600" cy="6430320"/>
          </a:xfrm>
        </p:grpSpPr>
        <p:sp>
          <p:nvSpPr>
            <p:cNvPr id="119" name=""/>
            <p:cNvSpPr/>
            <p:nvPr/>
          </p:nvSpPr>
          <p:spPr>
            <a:xfrm flipV="1" rot="10800000">
              <a:off x="7481880" y="58366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481880" y="5710680"/>
              <a:ext cx="288360" cy="980280"/>
              <a:chOff x="7481880" y="5710680"/>
              <a:chExt cx="288360" cy="9802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7626240" y="5710680"/>
                <a:ext cx="0" cy="21312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626240" y="6510960"/>
                <a:ext cx="0" cy="180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481880" y="578124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7481880" y="656028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 rot="10800000">
              <a:off x="7500960" y="3862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500960" y="260640"/>
              <a:ext cx="288360" cy="980280"/>
              <a:chOff x="7500960" y="260640"/>
              <a:chExt cx="288360" cy="9802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7645320" y="260640"/>
                <a:ext cx="0" cy="2131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645320" y="1060920"/>
                <a:ext cx="0" cy="180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500960" y="33120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500960" y="111024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89440" y="36118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6120" y="355860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1720" y="3922920"/>
              <a:ext cx="0" cy="120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624080" y="393336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530120" y="3530160"/>
              <a:ext cx="223560" cy="345960"/>
              <a:chOff x="7530120" y="3530160"/>
              <a:chExt cx="223560" cy="345960"/>
            </a:xfrm>
          </p:grpSpPr>
          <p:sp>
            <p:nvSpPr>
              <p:cNvPr id="136" name=""/>
              <p:cNvSpPr/>
              <p:nvPr/>
            </p:nvSpPr>
            <p:spPr>
              <a:xfrm>
                <a:off x="7641720" y="3530160"/>
                <a:ext cx="0" cy="1224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30120" y="365256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1720" y="360864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514280" y="408240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14280" y="4144320"/>
              <a:ext cx="264240" cy="594000"/>
              <a:chOff x="7514280" y="4144320"/>
              <a:chExt cx="264240" cy="59400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7620120" y="4235760"/>
                <a:ext cx="0" cy="5025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4280" y="4174920"/>
                <a:ext cx="105840" cy="608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620120" y="4144320"/>
                <a:ext cx="158400" cy="91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514280" y="4142160"/>
              <a:ext cx="264600" cy="32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20120" y="4082400"/>
              <a:ext cx="54000" cy="15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645680" y="3989880"/>
              <a:ext cx="0" cy="857160"/>
              <a:chOff x="7645680" y="3989880"/>
              <a:chExt cx="0" cy="8571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7645680" y="3989880"/>
                <a:ext cx="0" cy="16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645680" y="4725720"/>
                <a:ext cx="0" cy="121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4400000">
              <a:off x="7502040" y="4699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4400000">
              <a:off x="7508880" y="4636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4400000">
              <a:off x="7451280" y="304884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400000">
              <a:off x="7458120" y="29862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00600" y="2853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7280" y="2799720"/>
              <a:ext cx="33552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3240" y="3164400"/>
              <a:ext cx="0" cy="120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635600" y="31748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541280" y="2771280"/>
              <a:ext cx="223560" cy="345960"/>
              <a:chOff x="7541280" y="2771280"/>
              <a:chExt cx="223560" cy="345960"/>
            </a:xfrm>
          </p:grpSpPr>
          <p:sp>
            <p:nvSpPr>
              <p:cNvPr id="158" name=""/>
              <p:cNvSpPr/>
              <p:nvPr/>
            </p:nvSpPr>
            <p:spPr>
              <a:xfrm>
                <a:off x="7652880" y="2771280"/>
                <a:ext cx="0" cy="1224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1280" y="289368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52880" y="284976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14400000">
              <a:off x="7451280" y="151236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4400000">
              <a:off x="7458120" y="144972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26880" y="207612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526880" y="2138040"/>
              <a:ext cx="264240" cy="594000"/>
              <a:chOff x="7526880" y="2138040"/>
              <a:chExt cx="264240" cy="59400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7632720" y="2229480"/>
                <a:ext cx="0" cy="502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26880" y="2168640"/>
                <a:ext cx="105840" cy="60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632720" y="2138040"/>
                <a:ext cx="15840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7526880" y="2135880"/>
              <a:ext cx="264600" cy="3204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632720" y="2076120"/>
              <a:ext cx="54000" cy="15156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658280" y="1983240"/>
              <a:ext cx="0" cy="857160"/>
              <a:chOff x="7658280" y="1983240"/>
              <a:chExt cx="0" cy="85716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7658280" y="1983240"/>
                <a:ext cx="0" cy="1656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658280" y="2719080"/>
                <a:ext cx="0" cy="12132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093520" y="822960"/>
              <a:ext cx="61920" cy="285480"/>
              <a:chOff x="8093520" y="822960"/>
              <a:chExt cx="61920" cy="2854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8093520" y="82296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93520" y="10789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3520" y="101952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93520" y="95976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3520" y="8974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93520" y="8352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8125200" y="6257880"/>
              <a:ext cx="61920" cy="285480"/>
              <a:chOff x="8125200" y="6257880"/>
              <a:chExt cx="61920" cy="28548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8125200" y="625788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25200" y="651384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5200" y="645444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25200" y="63946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25200" y="63324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25200" y="62701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767720" y="61812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634160" y="5228640"/>
              <a:ext cx="0" cy="5079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91400" y="4403880"/>
              <a:ext cx="596880" cy="406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6760" y="5368680"/>
              <a:ext cx="628920" cy="4190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275680" y="4797000"/>
              <a:ext cx="0" cy="9903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46760" y="4835520"/>
              <a:ext cx="6120" cy="139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16600" y="3832200"/>
              <a:ext cx="1969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36040" y="3063960"/>
              <a:ext cx="126720" cy="568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6760" y="1171800"/>
              <a:ext cx="704880" cy="495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10480" y="2397240"/>
              <a:ext cx="628920" cy="418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39400" y="1679760"/>
              <a:ext cx="6120" cy="1136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646760" y="1184400"/>
              <a:ext cx="0" cy="590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736040" y="7524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621440" y="189000"/>
            <a:ext cx="3724200" cy="52056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835280" y="765000"/>
          <a:ext cx="58197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765000"/>
                    <a:ext cx="58197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8360" y="4005360"/>
                <a:ext cx="1152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960" y="34081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076640"/>
                <a:ext cx="4680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4000" y="5084640"/>
                <a:ext cx="2663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51280" y="5373720"/>
                <a:ext cx="49323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549360"/>
                <a:ext cx="540072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acc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M</m:t>
                                    </m:r>
                                  </m:e>
                                </m:acc>
                                <m:r>
                                  <m:t xml:space="preserve">∧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50920" y="2205000"/>
                <a:ext cx="2700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43564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une répartition uniforme de 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2160" y="3645000"/>
            <a:ext cx="651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est le couple de friction 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est le coefficient de frottement entre deux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 le nombre de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st l’effort axial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et r sont les rayons extrêmes de la surface de frot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800" y="5392800"/>
            <a:ext cx="25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uméri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05280" y="5608800"/>
            <a:ext cx="2304720" cy="91692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 = 0,0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ouple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l’effort axial 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0" r="0" b="25451"/>
          <a:stretch/>
        </p:blipFill>
        <p:spPr>
          <a:xfrm>
            <a:off x="0" y="907920"/>
            <a:ext cx="4533840" cy="260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276720" y="836640"/>
                <a:ext cx="4371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μ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+ 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23600" y="1628640"/>
            <a:ext cx="4112640" cy="119124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lication numér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 = 2200 . 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s: couple de serrage de la vis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: effort axial  exercé par la vis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860640"/>
            <a:ext cx="165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860640"/>
            <a:ext cx="1871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es di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7640" y="3860640"/>
            <a:ext cx="237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 transmi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 limi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31400" y="524844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de serrage envisageable avec la clef de serrage: 5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: 110 0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transmissible: 220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22:48Z</dcterms:created>
  <dc:creator>Marc SALETTE</dc:creator>
  <dc:description/>
  <dc:language>en-US</dc:language>
  <cp:lastModifiedBy>Marc SALETTE</cp:lastModifiedBy>
  <dcterms:modified xsi:type="dcterms:W3CDTF">2008-03-08T17:07:11Z</dcterms:modified>
  <cp:revision>5</cp:revision>
  <dc:subject/>
  <dc:title>Ouvre portail Domotic Limiteur de couple </dc:title>
</cp:coreProperties>
</file>